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E6C-1778-4013-B2C9-4A35415C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734-73DB-4CEA-A7B2-79DE8277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669-F5E9-40B7-84FC-0D306BBF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9D9-57A7-4F92-BFFA-8F9B3F36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899-E7D2-4C10-9821-CB25C16B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0F5-BA18-4F93-919D-37D82E67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9A5-D47E-42A3-8BF0-BAD992B0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BCB-B5E7-4CC7-A1CF-BC081BEE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BC5-82B3-4D2E-A250-AF16B018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5E4-6B00-4575-891E-8EC06C87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EC5-94A9-4182-A25F-4B86D191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EDA-87CB-4A74-9364-7387E777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E298-2E24-4C19-861D-165626B7B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886280" cy="990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5943600" cy="709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2286000"/>
            <a:ext cx="6553440" cy="4390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24280" y="5029200"/>
            <a:ext cx="1905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52578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4674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629400" cy="125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914400"/>
            <a:ext cx="3049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914400"/>
            <a:ext cx="1522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5639040" cy="961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685800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238880" cy="1827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14479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127840" cy="6705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8120" y="13716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1828800"/>
            <a:ext cx="5331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228600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2666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6019920"/>
            <a:ext cx="1600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2:23:34Z</dcterms:created>
  <dc:creator>grahams</dc:creator>
  <dc:description/>
  <dc:language>en-US</dc:language>
  <cp:lastModifiedBy>grahams</cp:lastModifiedBy>
  <dcterms:modified xsi:type="dcterms:W3CDTF">2012-03-20T14:14:44Z</dcterms:modified>
  <cp:revision>2</cp:revision>
  <dc:subject/>
  <dc:title>Slide 1</dc:title>
</cp:coreProperties>
</file>